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1A94-BF86-4413-AA8A-901CC354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A35-4B05-4FA5-A2EA-7BF3B7F8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CBD-346B-477E-80B6-37FDB8BD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F57-6641-419E-848C-ED2E36E4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1201-AD28-4BA1-9D0A-BCB87567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E1DD-F3FA-42DC-9869-5693D0A3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1E3D-0DC9-494C-8722-FE5CDDDF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9D3A-5EFB-4371-AE57-87316B3E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9D84-5C51-448F-9B43-426F482F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B2D-0390-478A-AD3A-ECD2D4D5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AC7-A0EB-4861-A35E-DEBECBC9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25F-FDE2-46E2-B95A-D0E2BEC6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B945-7784-43A4-90B7-0AE9F6B31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ergarten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littl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loo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ai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01:14:14Z</dcterms:created>
  <dc:creator>KGladden</dc:creator>
  <dc:description/>
  <dc:language>en-US</dc:language>
  <cp:lastModifiedBy>KGladden</cp:lastModifiedBy>
  <dcterms:modified xsi:type="dcterms:W3CDTF">2008-09-12T01:23:26Z</dcterms:modified>
  <cp:revision>4</cp:revision>
  <dc:subject/>
  <dc:title>High Frequency Words</dc:title>
</cp:coreProperties>
</file>